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аква компл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413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им растворима сви су јони хидратиса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хидратације зависи о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 ј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 потенцијал представља однос наелектрисања и радијуса ј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хидратације већине катјона праћене су реакцијама хидролизе које одређују киселе особ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 соли метала долази до дисоцијације тј. и до хидратаци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z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→   M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z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z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 M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z-1)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матрању киселости аква комплекса прелазних метала можемо се задржати само на првом ступњу хидро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↔ M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z-1)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ојени водоников јон даје кисели карактер растворима металних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ога кажемо да се хидратисани јони метала или аква комплекси понашају као протонске 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расте са порастом јонског потенцијала металног јона јер његов пораст доприноси лакшем отцепљењу водониковог јон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молекула воде 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дратисани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мет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са већим јонским потенцијалом привлаче ближе молекуле воде и то негативну страну (са стране атома кисеон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вањем молекула воде ка јону метала расту одбојне силе између позитивно наелектрисаног јона метала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зитивног дела дипола воде (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одбојно дејство јако отцепљује се водоников јон и као последица тога настаје хидролитички комплекс M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z-1)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јонски потенцијал метала већи водоников јон се лакше отцепљује и аква комплекс се понаша као јача кисе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  је на пример јонски потенцијал гвожђе(III)-јона већи (46,8) од јонског потенцијала гвожђе(II)-јона (26,3) из два раз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(III)-јон има веће наелектрис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(III)-јон има мањи радиј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(III)-јон ближе привлачи молекул воде од гвожђе(II)-ј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већег позитивног наелектрисања и мањег радијуса јаче су одбојне силе између металног јона Fe(III) и молекула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ов јон се лакше издваја из хидратационе сфере гвожђе(III)-ј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свега тога можемо закључити да је хексааква комплекс гвожђе(III)-јона јача киселина од хексааква комплекса гвожђе(II)-ј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се јавља код већих металних јона са великом количином наелектрис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растворимо неку со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 раствор је кисео (лакмус поцрвени). То је последица хидролизе поменутих јо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лекула воде који окружује јо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 процеса хидролизе је тачно дефинисан. У случају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је 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 процесом растварања у води тј. хидролизом настају аква комплекси поменутих јо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l(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Horizontal Scroll 6"/>
          <p:cNvSpPr/>
          <p:nvPr/>
        </p:nvSpPr>
        <p:spPr>
          <a:xfrm>
            <a:off x="0" y="714240"/>
            <a:ext cx="5214960" cy="2676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настаје као последица одбијања позитивно наелектрисаног Н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из молекула воде и позитивно наелектрисаног металног ј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Horizontal Scroll 7"/>
          <p:cNvSpPr/>
          <p:nvPr/>
        </p:nvSpPr>
        <p:spPr>
          <a:xfrm>
            <a:off x="3929040" y="2214720"/>
            <a:ext cx="5214960" cy="26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су киселине супстанце које у води отпуштају протоне, раствор соли алуминијума у води је кисео (рК је око 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000080" y="4786200"/>
            <a:ext cx="6400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:\Slike za predavanja\034.jpg"/>
          <p:cNvPicPr/>
          <p:nvPr/>
        </p:nvPicPr>
        <p:blipFill>
          <a:blip r:embed="rId1"/>
          <a:stretch/>
        </p:blipFill>
        <p:spPr>
          <a:xfrm>
            <a:off x="357120" y="1643040"/>
            <a:ext cx="85154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Horizontal Scroll 3"/>
          <p:cNvSpPr/>
          <p:nvPr/>
        </p:nvSpPr>
        <p:spPr>
          <a:xfrm>
            <a:off x="3429000" y="3000240"/>
            <a:ext cx="4786200" cy="1819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већи јонски потенцијал већа је киселост аква компл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Horizontal Scroll 4"/>
          <p:cNvSpPr/>
          <p:nvPr/>
        </p:nvSpPr>
        <p:spPr>
          <a:xfrm>
            <a:off x="857160" y="1357200"/>
            <a:ext cx="4786560" cy="1819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ст аква комплекса зависи од јонског потенцијала металног ј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Horizontal Scroll 4"/>
          <p:cNvSpPr/>
          <p:nvPr/>
        </p:nvSpPr>
        <p:spPr>
          <a:xfrm>
            <a:off x="1258920" y="2492280"/>
            <a:ext cx="6481800" cy="20653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се може сузбити додатком соли која слабије хидролизује. Они сузбијају хидролизу зб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wn Arrow 7"/>
          <p:cNvSpPr/>
          <p:nvPr/>
        </p:nvSpPr>
        <p:spPr>
          <a:xfrm>
            <a:off x="6012000" y="4365720"/>
            <a:ext cx="504720" cy="10713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8"/>
          <p:cNvSpPr/>
          <p:nvPr/>
        </p:nvSpPr>
        <p:spPr>
          <a:xfrm>
            <a:off x="1763640" y="4292640"/>
            <a:ext cx="432000" cy="1001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Punched Tape 12"/>
          <p:cNvSpPr/>
          <p:nvPr/>
        </p:nvSpPr>
        <p:spPr>
          <a:xfrm>
            <a:off x="611280" y="4857840"/>
            <a:ext cx="3857400" cy="200016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количину слободних молекула воде јер се вода троши на хидратацију слободних јона мет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Punched Tape 13"/>
          <p:cNvSpPr/>
          <p:nvPr/>
        </p:nvSpPr>
        <p:spPr>
          <a:xfrm>
            <a:off x="5076720" y="5143680"/>
            <a:ext cx="3857760" cy="171432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рања накнадно додатих 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196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реакције хидролизе представљају реакције јона метала и молекула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растворене соли прелазног метала настоје да се поново сједине са јонима метала (да га комплексирају) па се супротстављају реакцији хидрол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-базне особине комплек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њевита хидролиза хексаакваалумин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ј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улативна константа хидролизе је јед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357280" y="1714680"/>
            <a:ext cx="4724640" cy="340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3429000" y="5357880"/>
            <a:ext cx="2743200" cy="47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2700360" y="6093000"/>
            <a:ext cx="41148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а хидролитичких врста са променом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дности система у процесу хидролиз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HIDAL"/>
          <p:cNvPicPr/>
          <p:nvPr/>
        </p:nvPicPr>
        <p:blipFill>
          <a:blip r:embed="rId1"/>
          <a:stretch/>
        </p:blipFill>
        <p:spPr>
          <a:xfrm>
            <a:off x="1187280" y="2076480"/>
            <a:ext cx="63741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овање комплекс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700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 = база, а јон метала =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ја између протона и јона метала у односу на лиг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 дејство између протона и лиганда = протоновање лиганда = спречено грађење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олидентатних лиганада утицај протоновања је разноврсн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5"/>
          <p:cNvGraphicFramePr/>
          <p:nvPr/>
        </p:nvGraphicFramePr>
        <p:xfrm>
          <a:off x="2484360" y="4653000"/>
          <a:ext cx="644544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653000"/>
                    <a:ext cx="64454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баз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1844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иоди базност елемената опада идући са лево на 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групе алкалних и земноалакалних елемената расте идући од врха ка подножју гру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р-елемената редослед базности обр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о се мења и базност d-елем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 акцепторско-донорске киселине и б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700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ис (1923. год.) – електрон акцепторско-донорска дефиниција киселина и база = реакције код којих се врши пренос електронског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= давалац (донор) електронског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= прималац (акцептор) електронског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= атом, молекул или јон који има слободан неподељен електронски 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поседује најмање један атом са празном орбиталом у коју се може сместити електронски 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O  +  Ni  →  [Ni(C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је јача = јачи афинитет према електрону (B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база се слично мења као и код протонских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&gt; P &gt; As &gt; S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елементи  L i &lt; Na &lt; K &lt; Rb &lt; 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&lt; Mg &lt; Ca &lt; Sr &lt; 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&gt; H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&gt; M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&gt; M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1197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о протолитичким реакцијама, и код електрон акцепторско-донорских реакција јача база супституише слабију базу, а јача киселина супституише слабију кисел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 лиганд истискује слабиј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ачину киселина и база ути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т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и </a:t>
            </a:r>
            <a:r>
              <a:rPr b="1" i="1" lang="sr-CS" sz="32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хидра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 је процес када одређени метални јон окруже молекули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лекула воде није тачно дефини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хидратационе сфере: прва, друга, трећ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000240" y="3714840"/>
            <a:ext cx="2819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хидратациона сфереа: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-дипо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хидратациона сфера: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-дипо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хидратациона сфера: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-дипол интеракције мањег интенз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често долази до измене молекула воде унутар хидратационих сф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 је карактеристична за мале јоне метала са малом количином наелектрис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број једноставних комплекса настаје додавањем раствора лиганада у раствор соли ме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раствору бакар-сулфата дода у вишку раствор амонијака настаје комплекс тетраамминбакар(II)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лф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растворне соли метала у воденим растворима постоје у облику хидратисаних јона (аква комплекса) настајање тетраамминског комплекса бакра можемо приказати на следећи нач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 4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 [Cu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4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50920" y="981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упститу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, представља и кисело-базну реакцију у којој се аква комплекс понаша као киселина, а амонијак као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Луисовој дефиницији киселина и база, база је донор, а киселина акцептор елек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 комплекс = кисело - базни пар = јон метала се понаша као киселина, а молекули воде (лиганди) као б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1125000"/>
            <a:ext cx="87138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ске или Бренштедове киселине и б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 акцепторско-донорске или Луисове киселине и б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о-меке или Пирсонове киселине и б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583640" y="105264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киселина и ба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ске киселине и б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773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тарија 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л 1680. године = Киселине су супстанце чији водени раствори дају кисели укус, базе супстанце које дају алкални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ви 1815. год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ов атом даје киселе особине супстанц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све супстанце киселине које садрже водоников а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 присуство је неопходно али не и довољ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ијус 1884. године = Киселине су супстанце које дисосују у води и дају водоников јон. Базе дају хидроксилни ј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ске киселине и б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штед и Лори (1923. године) су предложили дефиниц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= донор про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= акцептор про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литичке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 +   B  →   B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нека супстанца киселина или база зависи од особина другог учесника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 +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→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26748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ски афи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052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ски афинитет (П) можемо дефинисати као способност базе (А) да привуче протон 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као способност базе (А) да подели свој електронски пар са кисел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а се ослободи при спајању протона са б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нуто је пропорционала величина у односу на електронегатив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подложни полимериз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ски афинитет анјона има супротан редо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45813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,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,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,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,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    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       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     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      5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   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      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         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протонских киселина и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773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тонским растварачима као мерило јачине киселина и база  могу нам послужити њихове константе дисоциј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протонских киселина зависи 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е Н-А ве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оксо киселина (код халогених) зависи од броја кисеоникових ато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6T09:53:54Z</dcterms:modified>
  <cp:revision>183</cp:revision>
  <dc:subject/>
  <dc:title>Slide 1</dc:title>
</cp:coreProperties>
</file>